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71E-6F8E-46F1-A7A1-F3613100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A42-6756-4DF8-8375-3BA3DB7522C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3289-E19B-4B8D-BEA6-726D7C2CEFA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1C1-9549-4CFE-8BE0-1390CD6DBA2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DB40-9124-4F9E-9BEF-21FAFF71916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A632-6190-418B-AAF5-E0D3D08B61A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B0B-527F-4B1D-B502-AAC0C1BA6C0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B441-9A21-499B-A0AA-85652FEDF42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8AC5-05C1-4169-BD01-1506C0FAD96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2149-1E4A-4C24-AB5A-410E97983A3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034-E78A-411D-841C-73610E3B7FB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7E43-6CFF-41CA-9AC4-835E6BC1ACA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B9EA-AAC0-44D1-B81B-432D07E71B3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7A1-5562-49B6-832E-C41523721BC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2DB-64D3-4257-83C3-6B4CA5503EB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A01-5715-44AE-B44B-4AAE54E0F9D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E711-C2E4-40DA-969E-D710436BC08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011-15E1-41E0-802D-ECE12D25651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668-956B-4BCD-8A89-366A1487A09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1B99-2ED2-4750-AF71-80283C49040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2E7-9849-4FE0-8E3C-F9F909F9883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9D3E-C55E-4EAB-848C-837F3C005DF6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F4AE-CD12-4F03-B2F0-35DC06B09AE0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F24-973B-4F38-805D-D0D5E471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6B3-4924-49B1-9247-A8FA71B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B3A-B471-4DA8-BB3C-A8E915AE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9A5-808C-4C9D-B4D3-608521AF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6C97-2A4B-4ABB-A4A9-F30E1EC0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0377-399C-4646-95C6-799A1BCF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21B2-0630-44C1-9453-42AACAF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FFEA-BABF-4A4F-9387-A1F520D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2C73-3D65-42C7-982F-99803BD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6950-4B7D-4689-BAD6-FBB289E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D87F-19DD-445B-A06A-8B8CBA55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FD9-E26F-4E90-AC80-1E1D00F7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DF9-C560-4201-AF0D-427CBF2E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2AB3-055E-438E-8A24-BC135B4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E24-127D-45ED-9024-B85ACCCF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731-EE92-4A24-BF3F-7A231EEE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26EC-1507-4A9A-AEEB-6539539D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EE2-FEC6-4E63-968C-DEBF7B0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01-9EF1-4133-B111-4957763F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86B-82A2-43AF-B577-5693EA99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860-212A-4BCE-9235-C53A0AF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8DE-BA7F-4818-8466-B4FF095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0FE-895E-4EFA-BC54-60DD821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0FA-22F0-4B2F-B6C2-6F01C13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AB4-E2DB-49CB-8053-5F2E9FBA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787C-6960-4FF0-B42B-58E9AD63A25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 in the Pacif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omb.wmv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U.S.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declared war on Japa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Dec. 8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mobilizes for total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earlharborposter"/>
          <p:cNvPicPr/>
          <p:nvPr/>
        </p:nvPicPr>
        <p:blipFill>
          <a:blip r:embed="rId1"/>
          <a:stretch/>
        </p:blipFill>
        <p:spPr>
          <a:xfrm>
            <a:off x="1652760" y="3505320"/>
            <a:ext cx="221904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oster"/>
          <p:cNvPicPr/>
          <p:nvPr/>
        </p:nvPicPr>
        <p:blipFill>
          <a:blip r:embed="rId2"/>
          <a:stretch/>
        </p:blipFill>
        <p:spPr>
          <a:xfrm>
            <a:off x="4952880" y="3505320"/>
            <a:ext cx="2146320" cy="32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Franklin D. Roosevelt"/>
          <p:cNvPicPr/>
          <p:nvPr/>
        </p:nvPicPr>
        <p:blipFill>
          <a:blip r:embed="rId3"/>
          <a:stretch/>
        </p:blipFill>
        <p:spPr>
          <a:xfrm>
            <a:off x="7086600" y="1828800"/>
            <a:ext cx="1333440" cy="1566720"/>
          </a:xfrm>
          <a:prstGeom prst="rect">
            <a:avLst/>
          </a:prstGeom>
          <a:ln w="0">
            <a:noFill/>
          </a:ln>
        </p:spPr>
      </p:pic>
      <p:pic>
        <p:nvPicPr>
          <p:cNvPr id="124" name="infamy.wav" descr=""/>
          <p:cNvPicPr/>
          <p:nvPr/>
        </p:nvPicPr>
        <p:blipFill>
          <a:blip r:embed="rId4"/>
          <a:stretch/>
        </p:blipFill>
        <p:spPr>
          <a:xfrm>
            <a:off x="47242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7493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U.S.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4038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ve Order 9066: Japanese living on the West Coast of the U.S. forced to move to internment ca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gn posted notifying people of Japanese descent to report to for relocation."/>
          <p:cNvPicPr/>
          <p:nvPr/>
        </p:nvPicPr>
        <p:blipFill>
          <a:blip r:embed="rId1"/>
          <a:stretch/>
        </p:blipFill>
        <p:spPr>
          <a:xfrm>
            <a:off x="5638680" y="1981080"/>
            <a:ext cx="2687760" cy="32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9452075"/>
          <p:cNvPicPr/>
          <p:nvPr/>
        </p:nvPicPr>
        <p:blipFill>
          <a:blip r:embed="rId2"/>
          <a:stretch/>
        </p:blipFill>
        <p:spPr>
          <a:xfrm>
            <a:off x="2133720" y="4952880"/>
            <a:ext cx="2590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If you were FDR in 1942, what would you have done about the Japanese living in the U.S.? Why?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Share your answers with a partn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: World re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26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Britain declared war on Japan on Dec. 8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many and Italy declared war on the U.S. on Dec. 11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Winston Churchill"/>
          <p:cNvPicPr/>
          <p:nvPr/>
        </p:nvPicPr>
        <p:blipFill>
          <a:blip r:embed="rId1"/>
          <a:stretch/>
        </p:blipFill>
        <p:spPr>
          <a:xfrm>
            <a:off x="6858000" y="1600200"/>
            <a:ext cx="1593720" cy="1924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mussolini_hitler"/>
          <p:cNvPicPr/>
          <p:nvPr/>
        </p:nvPicPr>
        <p:blipFill>
          <a:blip r:embed="rId2"/>
          <a:stretch/>
        </p:blipFill>
        <p:spPr>
          <a:xfrm>
            <a:off x="6118200" y="3657600"/>
            <a:ext cx="24066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ttles/Engag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3352320"/>
            <a:ext cx="7010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little raid – April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 of Coral Sea – May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ay – June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dalcanal – Nov. 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23880" y="1676520"/>
            <a:ext cx="5943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ugh 1942, the Japanese expanded their empire in Asia and in the Pacific, but after that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ttles/Engag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Islands – Nov. 19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ajalein – Feb. 1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yte Gulf – Oct. 1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o Jima – Feb.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ombing Tokyo – March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Note-che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ake a few minutes to compare notes with a partner. Clarify any info you don’t fully understa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apanese atroc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age:JapaneseStormNanjing.jpg"/>
          <p:cNvPicPr/>
          <p:nvPr/>
        </p:nvPicPr>
        <p:blipFill>
          <a:blip r:embed="rId1"/>
          <a:stretch/>
        </p:blipFill>
        <p:spPr>
          <a:xfrm>
            <a:off x="1143000" y="2514600"/>
            <a:ext cx="3809880" cy="291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risoners on the march from Bataan to the prison camp, May 1942. (National Archives)"/>
          <p:cNvPicPr/>
          <p:nvPr/>
        </p:nvPicPr>
        <p:blipFill>
          <a:blip r:embed="rId2"/>
          <a:stretch/>
        </p:blipFill>
        <p:spPr>
          <a:xfrm>
            <a:off x="5334120" y="3995640"/>
            <a:ext cx="3352680" cy="2664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828800" y="205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e of Nanking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4100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aan Death March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amikaze pilo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honor to die for the empe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kamikaze"/>
          <p:cNvPicPr/>
          <p:nvPr/>
        </p:nvPicPr>
        <p:blipFill>
          <a:blip r:embed="rId1"/>
          <a:stretch/>
        </p:blipFill>
        <p:spPr>
          <a:xfrm>
            <a:off x="3657600" y="2590920"/>
            <a:ext cx="4800600" cy="382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Image:Ensign Kiyoshi Ogawa hit Bunker Hill.gif"/>
          <p:cNvPicPr/>
          <p:nvPr/>
        </p:nvPicPr>
        <p:blipFill>
          <a:blip r:embed="rId2"/>
          <a:stretch/>
        </p:blipFill>
        <p:spPr>
          <a:xfrm>
            <a:off x="1752480" y="3429000"/>
            <a:ext cx="1428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tomic bom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by Trum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 justification: would save American l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ped on Hiroshima on Aug. 6, 1945; no Japanese sur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opped on Nagasaki on Aug. 9, 1945; Japanese sur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th toll from bombs: approx. 214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he Fat Man mushroom cloud resulting from the nuclear explosion over Nagasaki rises 18 km (11 mi, 60,000 ft) into the air from the hypocenter."/>
          <p:cNvPicPr/>
          <p:nvPr/>
        </p:nvPicPr>
        <p:blipFill>
          <a:blip r:embed="rId1"/>
          <a:stretch/>
        </p:blipFill>
        <p:spPr>
          <a:xfrm>
            <a:off x="6629400" y="2057400"/>
            <a:ext cx="2389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Japan began a war with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reasons why the U.S. won the w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nd of the Pacific W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SR declared war on Japan on Aug. 8, 19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surrendered Aug. 14, 19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s: U.S. approx. 500,000; Japan approx. 2 mill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200px-Vj_day_kiss"/>
          <p:cNvPicPr/>
          <p:nvPr/>
        </p:nvPicPr>
        <p:blipFill>
          <a:blip r:embed="rId1"/>
          <a:srcRect l="0" t="0" r="0" b="5890"/>
          <a:stretch/>
        </p:blipFill>
        <p:spPr>
          <a:xfrm>
            <a:off x="5500800" y="2057400"/>
            <a:ext cx="331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/Discuss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Japan start the war with the U.S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id the U.S. win the w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Stump your part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ake a minute to come up with 1 question. Then see if you can stump your part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We’ll then answer harder questions as a cla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List 3 facts about America’s war with Japa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apan pre-194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asion of Ch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asion of Ko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k of war with USS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s with Amer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sponse to Japanese aggression in Asia, the U.S. froze Japanese asset and embargoed these products from going to Jap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ap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otiations went no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news2715.wav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pearl9"/>
          <p:cNvPicPr/>
          <p:nvPr/>
        </p:nvPicPr>
        <p:blipFill>
          <a:blip r:embed="rId2"/>
          <a:stretch/>
        </p:blipFill>
        <p:spPr>
          <a:xfrm>
            <a:off x="1676520" y="1660680"/>
            <a:ext cx="62481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364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Pacific Fleet based at Pearl Harbor, Hawa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prise attack…7:55 a.m., Sunday, Dec. 7, 19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Arizona Sinking"/>
          <p:cNvPicPr/>
          <p:nvPr/>
        </p:nvPicPr>
        <p:blipFill>
          <a:blip r:embed="rId1"/>
          <a:stretch/>
        </p:blipFill>
        <p:spPr>
          <a:xfrm>
            <a:off x="4572000" y="411480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earl1"/>
          <p:cNvPicPr/>
          <p:nvPr/>
        </p:nvPicPr>
        <p:blipFill>
          <a:blip r:embed="rId2"/>
          <a:stretch/>
        </p:blipFill>
        <p:spPr>
          <a:xfrm>
            <a:off x="5638680" y="1447920"/>
            <a:ext cx="312444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arl Harb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bombed Pacific Fleet and military airfie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 casualties: 2,350 servicemen and civilians died; 1,178 wounded; 21 ships and 323 aircraft destroyed or dam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S Arizona sunk, killing 1,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casualties: less than 100 men, 29 planes, 5 midget submar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earl5-plane"/>
          <p:cNvPicPr/>
          <p:nvPr/>
        </p:nvPicPr>
        <p:blipFill>
          <a:blip r:embed="rId1"/>
          <a:stretch/>
        </p:blipFill>
        <p:spPr>
          <a:xfrm>
            <a:off x="371520" y="152280"/>
            <a:ext cx="4048200" cy="320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earl6"/>
          <p:cNvPicPr/>
          <p:nvPr/>
        </p:nvPicPr>
        <p:blipFill>
          <a:blip r:embed="rId2"/>
          <a:stretch/>
        </p:blipFill>
        <p:spPr>
          <a:xfrm>
            <a:off x="4648320" y="3506760"/>
            <a:ext cx="4114800" cy="327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arl7"/>
          <p:cNvPicPr/>
          <p:nvPr/>
        </p:nvPicPr>
        <p:blipFill>
          <a:blip r:embed="rId3"/>
          <a:stretch/>
        </p:blipFill>
        <p:spPr>
          <a:xfrm>
            <a:off x="380880" y="3508200"/>
            <a:ext cx="4038840" cy="322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earl8"/>
          <p:cNvPicPr/>
          <p:nvPr/>
        </p:nvPicPr>
        <p:blipFill>
          <a:blip r:embed="rId4"/>
          <a:stretch/>
        </p:blipFill>
        <p:spPr>
          <a:xfrm>
            <a:off x="4648320" y="166680"/>
            <a:ext cx="4114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40:37Z</dcterms:created>
  <dc:creator>Scott Vigallon</dc:creator>
  <dc:description/>
  <dc:language>en-US</dc:language>
  <cp:lastModifiedBy>Sacerdote, Kevin R.</cp:lastModifiedBy>
  <dcterms:modified xsi:type="dcterms:W3CDTF">2017-02-06T11:47:32Z</dcterms:modified>
  <cp:revision>25</cp:revision>
  <dc:subject/>
  <dc:title>War in the Pacific</dc:title>
</cp:coreProperties>
</file>